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CB6-59C3-4C91-BADC-65DC58C9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042-2811-443B-8F26-9E040F03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7B8-BE3E-4FD7-8535-901C91C8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64D-37F1-49C1-9445-02B519D9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6794-FAEC-400D-A778-FDDA8256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90C0-61DD-465C-B7A4-D0392BC6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7FE9-89CD-4A07-AC6E-D71D04F5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9937-A49B-4360-8B2E-ED6084AE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EE52-FBAD-4A73-910D-51C6EBC8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67B4-FD8C-4DD8-BFD1-B5802F77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5F6A-C126-4A2E-BD52-AD7011B3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DF3-EC8A-4B6C-A2CC-4E64275E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75F7-2BBC-4D7E-99B2-71B75C12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38BD-635E-4938-A6FA-FE5B348A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DEB1-14F9-4373-AC0C-2DA5370D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DEF7-4D41-4CEA-8B46-94236F79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C8CF-2657-4CF7-B87E-C23BCBB2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009-7A19-4F9B-9D9F-9FC8212B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CCF-2867-4BDD-A4FB-D5457341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F34-D8C1-4D28-A075-DAD1DCA5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3B6-3BE8-4FF9-9A24-9A558CF9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E85-0346-4E3A-814B-176ACE4B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30F-F2BB-469F-AAE0-77CCC731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FF61-EA7A-4E77-92F2-1F275A27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A7E8-C09D-4709-9D5A-FE9D568C83E3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8542080" cy="1052280"/>
            <a:chOff x="228600" y="457200"/>
            <a:chExt cx="8542080" cy="1052280"/>
          </a:xfrm>
        </p:grpSpPr>
        <p:sp>
          <p:nvSpPr>
            <p:cNvPr id="7" name=""/>
            <p:cNvSpPr/>
            <p:nvPr/>
          </p:nvSpPr>
          <p:spPr>
            <a:xfrm>
              <a:off x="519120" y="565200"/>
              <a:ext cx="438120" cy="474480"/>
            </a:xfrm>
            <a:prstGeom prst="rect">
              <a:avLst/>
            </a:prstGeom>
            <a:solidFill>
              <a:srgbClr val="ffd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018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d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35040" y="990360"/>
              <a:ext cx="422280" cy="474840"/>
            </a:xfrm>
            <a:prstGeom prst="rect">
              <a:avLst/>
            </a:prstGeom>
            <a:solidFill>
              <a:srgbClr val="cc60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126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6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2860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3640" y="45720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4320" y="124776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A30D-8616-467D-B25F-6EB8D124D924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ct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pct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pct"/><Relationship Id="rId8" Type="http://schemas.openxmlformats.org/officeDocument/2006/relationships/oleObject" Target="../embeddings/oleObject3.bin"/><Relationship Id="rId9" Type="http://schemas.openxmlformats.org/officeDocument/2006/relationships/image" Target="../media/image12.pct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cc6018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cc6018"/>
                </a:solidFill>
                <a:latin typeface="Arial"/>
              </a:rPr>
              <a:t>Inequalities Introduction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5909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6576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705720" y="2895480"/>
            <a:ext cx="1304640" cy="1828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12640" y="365760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Tahoma"/>
              </a:rPr>
              <a:t>Algebra Seminar</a:t>
            </a:r>
            <a:endParaRPr b="0" lang="en-US" sz="1800" spc="-1" strike="noStrike">
              <a:solidFill>
                <a:srgbClr val="33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3x &lt; 12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-5x &gt; 20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932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lving Inequaliti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* Solving inequalities follows the same       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cedures as solving equation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* There are a few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pecial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ings to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sider with inequalities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* We need to look carefully at the inequality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sig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* We also need to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graph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the solution se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018"/>
                </a:solidFill>
                <a:latin typeface="Arial"/>
              </a:rPr>
              <a:t>Review of Inequality Sig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5640" y="27428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&gt;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eater tha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3352680"/>
            <a:ext cx="41911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&lt;   less than</a:t>
            </a:r>
            <a:endParaRPr b="0" lang="en-US" sz="3200" spc="-1" strike="noStrike">
              <a:solidFill>
                <a:srgbClr val="33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216320" y="256536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6320" y="25653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95280" y="26668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3962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reater than or equal</a:t>
            </a:r>
            <a:endParaRPr b="0" lang="en-US" sz="32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6623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ss than or equal</a:t>
            </a:r>
            <a:endParaRPr b="0" lang="en-US" sz="3200" spc="-1" strike="noStrike">
              <a:solidFill>
                <a:srgbClr val="33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317680" y="4753080"/>
          <a:ext cx="3492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7680" y="4753080"/>
                    <a:ext cx="349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327400" y="4038480"/>
          <a:ext cx="34920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27400" y="40384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018"/>
                </a:solidFill>
                <a:latin typeface="Arial"/>
              </a:rPr>
              <a:t>Graphing the solu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&gt;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aph any number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greater than. . 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pen circle, line to the righ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&lt; Graph any number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less tha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pen circle, line to the lef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aph any number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greater than or equal to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losed circle, line to the righ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aph any number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less than or equal to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losed circle, line to the lef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3886200"/>
          <a:ext cx="36036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86200"/>
                    <a:ext cx="3603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7315200" y="5410080"/>
            <a:ext cx="818640" cy="228600"/>
            <a:chOff x="7315200" y="5410080"/>
            <a:chExt cx="818640" cy="228600"/>
          </a:xfrm>
        </p:grpSpPr>
        <p:sp>
          <p:nvSpPr>
            <p:cNvPr id="116" name=""/>
            <p:cNvSpPr/>
            <p:nvPr/>
          </p:nvSpPr>
          <p:spPr>
            <a:xfrm>
              <a:off x="7315200" y="545292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ffcc00"/>
            </a:solidFill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5600" y="5410080"/>
              <a:ext cx="228240" cy="228600"/>
            </a:xfrm>
            <a:prstGeom prst="flowChartConnector">
              <a:avLst/>
            </a:prstGeom>
            <a:solidFill>
              <a:srgbClr val="ffcc00"/>
            </a:solidFill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934320" y="2057400"/>
            <a:ext cx="838080" cy="228600"/>
            <a:chOff x="6934320" y="2057400"/>
            <a:chExt cx="838080" cy="228600"/>
          </a:xfrm>
        </p:grpSpPr>
        <p:sp>
          <p:nvSpPr>
            <p:cNvPr id="119" name=""/>
            <p:cNvSpPr/>
            <p:nvPr/>
          </p:nvSpPr>
          <p:spPr>
            <a:xfrm>
              <a:off x="6934320" y="205740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62920" y="208584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ffcc00"/>
            </a:solidFill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467480" y="4343400"/>
            <a:ext cx="838440" cy="228600"/>
            <a:chOff x="7467480" y="4343400"/>
            <a:chExt cx="838440" cy="228600"/>
          </a:xfrm>
        </p:grpSpPr>
        <p:sp>
          <p:nvSpPr>
            <p:cNvPr id="122" name=""/>
            <p:cNvSpPr/>
            <p:nvPr/>
          </p:nvSpPr>
          <p:spPr>
            <a:xfrm>
              <a:off x="7467480" y="4343400"/>
              <a:ext cx="228600" cy="228600"/>
            </a:xfrm>
            <a:prstGeom prst="flowChartConnector">
              <a:avLst/>
            </a:prstGeom>
            <a:solidFill>
              <a:srgbClr val="ffcc00"/>
            </a:solidFill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437184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ffcc00"/>
            </a:solidFill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781680" y="3124080"/>
            <a:ext cx="838080" cy="228600"/>
            <a:chOff x="6781680" y="3124080"/>
            <a:chExt cx="838080" cy="228600"/>
          </a:xfrm>
        </p:grpSpPr>
        <p:sp>
          <p:nvSpPr>
            <p:cNvPr id="125" name=""/>
            <p:cNvSpPr/>
            <p:nvPr/>
          </p:nvSpPr>
          <p:spPr>
            <a:xfrm>
              <a:off x="7391160" y="312408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81680" y="316692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ffcc00"/>
            </a:solidFill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</p:grpSp>
      <p:graphicFrame>
        <p:nvGraphicFramePr>
          <p:cNvPr id="127" name=""/>
          <p:cNvGraphicFramePr/>
          <p:nvPr/>
        </p:nvGraphicFramePr>
        <p:xfrm>
          <a:off x="457200" y="4876920"/>
          <a:ext cx="38088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876920"/>
                    <a:ext cx="3808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tting up the number line: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reate a line that extends infinitely in both the positive and negative direc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enter the line around your focus numb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s it open or closed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ade to the left or right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876920" y="3962160"/>
            <a:ext cx="3201120" cy="1080"/>
          </a:xfrm>
          <a:prstGeom prst="straightConnector1">
            <a:avLst/>
          </a:prstGeom>
          <a:ln w="12600">
            <a:solidFill>
              <a:srgbClr val="33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/>
          <p:nvPr/>
        </p:nvCxnSpPr>
        <p:spPr>
          <a:xfrm>
            <a:off x="6400440" y="3733560"/>
            <a:ext cx="1080" cy="533880"/>
          </a:xfrm>
          <a:prstGeom prst="straightConnector1">
            <a:avLst/>
          </a:prstGeom>
          <a:ln w="12600">
            <a:solidFill>
              <a:srgbClr val="33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6324480" y="3809880"/>
            <a:ext cx="228600" cy="2286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3886200"/>
            <a:ext cx="1600200" cy="152280"/>
          </a:xfrm>
          <a:prstGeom prst="rightArrow">
            <a:avLst>
              <a:gd name="adj1" fmla="val 50000"/>
              <a:gd name="adj2" fmla="val 262707"/>
            </a:avLst>
          </a:prstGeom>
          <a:solidFill>
            <a:srgbClr val="009999"/>
          </a:solidFill>
          <a:ln w="1260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018"/>
                </a:solidFill>
                <a:latin typeface="Arial"/>
              </a:rPr>
              <a:t>Solve the inequality: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358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x + 4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&lt;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7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     </a:t>
            </a:r>
            <a:r>
              <a:rPr b="0" i="1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-4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i="1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-4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       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x   </a:t>
            </a: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&lt;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  3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2133720"/>
            <a:ext cx="6514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6018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Times New Roman"/>
              </a:rPr>
              <a:t>Subtract 4 from each side.</a:t>
            </a:r>
            <a:endParaRPr b="0" lang="en-US" sz="32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6018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Times New Roman"/>
              </a:rPr>
              <a:t>Keep the same inequality sign.</a:t>
            </a:r>
            <a:endParaRPr b="0" lang="en-US" sz="32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6018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Times New Roman"/>
              </a:rPr>
              <a:t>Graph the solution.  </a:t>
            </a:r>
            <a:endParaRPr b="0" lang="en-US" sz="3200" spc="-1" strike="noStrike">
              <a:solidFill>
                <a:srgbClr val="33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0000"/>
                </a:solidFill>
                <a:latin typeface="Times New Roman"/>
              </a:rPr>
              <a:t>Open circle, line to the left.</a:t>
            </a:r>
            <a:endParaRPr b="0" lang="en-US" sz="3200" spc="-1" strike="noStrike">
              <a:solidFill>
                <a:srgbClr val="33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33440" y="5076720"/>
            <a:ext cx="4748040" cy="854280"/>
            <a:chOff x="433440" y="5076720"/>
            <a:chExt cx="4748040" cy="854280"/>
          </a:xfrm>
        </p:grpSpPr>
        <p:sp>
          <p:nvSpPr>
            <p:cNvPr id="139" name=""/>
            <p:cNvSpPr/>
            <p:nvPr/>
          </p:nvSpPr>
          <p:spPr>
            <a:xfrm>
              <a:off x="433440" y="5076720"/>
              <a:ext cx="3429000" cy="228600"/>
            </a:xfrm>
            <a:prstGeom prst="leftArrow">
              <a:avLst>
                <a:gd name="adj1" fmla="val 50000"/>
                <a:gd name="adj2" fmla="val 375000"/>
              </a:avLst>
            </a:prstGeom>
            <a:solidFill>
              <a:srgbClr val="ffcc00"/>
            </a:solidFill>
            <a:ln w="1260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914400" y="5105520"/>
              <a:ext cx="4267080" cy="825480"/>
              <a:chOff x="914400" y="5105520"/>
              <a:chExt cx="4267080" cy="825480"/>
            </a:xfrm>
          </p:grpSpPr>
          <p:sp>
            <p:nvSpPr>
              <p:cNvPr id="141" name=""/>
              <p:cNvSpPr/>
              <p:nvPr/>
            </p:nvSpPr>
            <p:spPr>
              <a:xfrm>
                <a:off x="3048120" y="5105520"/>
                <a:ext cx="0" cy="380880"/>
              </a:xfrm>
              <a:prstGeom prst="line">
                <a:avLst/>
              </a:prstGeom>
              <a:ln w="1260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52680" y="5105520"/>
                <a:ext cx="0" cy="380880"/>
              </a:xfrm>
              <a:prstGeom prst="line">
                <a:avLst/>
              </a:prstGeom>
              <a:ln w="1260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57600" y="5105520"/>
                <a:ext cx="0" cy="380880"/>
              </a:xfrm>
              <a:prstGeom prst="line">
                <a:avLst/>
              </a:prstGeom>
              <a:ln w="1260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67080" y="5105520"/>
                <a:ext cx="0" cy="380880"/>
              </a:xfrm>
              <a:prstGeom prst="line">
                <a:avLst/>
              </a:prstGeom>
              <a:ln w="1260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76760" y="55627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95480" y="5562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838680" y="5105520"/>
                <a:ext cx="228600" cy="22860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14400" y="5257800"/>
                <a:ext cx="4267080" cy="0"/>
              </a:xfrm>
              <a:prstGeom prst="line">
                <a:avLst/>
              </a:prstGeom>
              <a:ln w="12600">
                <a:solidFill>
                  <a:srgbClr val="33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62520" y="5105520"/>
                <a:ext cx="0" cy="380880"/>
              </a:xfrm>
              <a:prstGeom prst="line">
                <a:avLst/>
              </a:prstGeom>
              <a:ln w="12600">
                <a:solidFill>
                  <a:srgbClr val="33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x &gt; -5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x &lt; -7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257800" y="2057400"/>
          <a:ext cx="91440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057400"/>
                    <a:ext cx="9144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070600" y="4419720"/>
          <a:ext cx="144288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0600" y="4419720"/>
                    <a:ext cx="14428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Some to try: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9320" y="1981080"/>
          <a:ext cx="2469960" cy="55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1981080"/>
                    <a:ext cx="24699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268280" y="3124080"/>
          <a:ext cx="2524320" cy="594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68280" y="3124080"/>
                    <a:ext cx="252432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295280" y="4343400"/>
          <a:ext cx="2724120" cy="573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5280" y="4343400"/>
                    <a:ext cx="27241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One special case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* Sometimes you may have to </a:t>
            </a:r>
            <a:r>
              <a:rPr b="1" i="1" lang="en-US" sz="3600" spc="-1" strike="noStrike">
                <a:solidFill>
                  <a:srgbClr val="330000"/>
                </a:solidFill>
                <a:latin typeface="Arial"/>
              </a:rPr>
              <a:t>reverse </a:t>
            </a: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the direction of the inequality sign!!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* That only happens when you 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330000"/>
                </a:solidFill>
                <a:latin typeface="Arial"/>
              </a:rPr>
              <a:t>multiply or divide</a:t>
            </a: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 both sides of the inequality by a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negative</a:t>
            </a: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 number.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1:49:56Z</dcterms:created>
  <dc:creator>HCPS</dc:creator>
  <dc:description/>
  <cp:keywords/>
  <dc:language>en-US</dc:language>
  <cp:lastModifiedBy>Parkland High School</cp:lastModifiedBy>
  <cp:lastPrinted>2010-10-25T12:37:31Z</cp:lastPrinted>
  <dcterms:modified xsi:type="dcterms:W3CDTF">2010-10-25T14:14:50Z</dcterms:modified>
  <cp:revision>61</cp:revision>
  <dc:subject/>
  <dc:title>1.6 </dc:title>
</cp:coreProperties>
</file>